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D20C-0A5B-4055-A046-33FFA6B08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03318-3E70-4ABA-A050-CC046E4F80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7"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citis</a:t>
            </a:r>
            <a:endParaRPr b="0" lang="en-US" sz="2400" spc="-1" strike="noStrike">
              <a:solidFill>
                <a:srgbClr val="000000"/>
              </a:solidFill>
              <a:latin typeface="Arial"/>
            </a:endParaRPr>
          </a:p>
        </p:txBody>
      </p:sp>
      <p:sp>
        <p:nvSpPr>
          <p:cNvPr id="49"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citis is inflammation of the appendix, a worm-like outpouching of the cecum (the beginning of the large intestine or colon) which is several inches in length. It is located in the lower right portion of the abdomen. Although the appendix does not seem to serve any purpose, it can still become diseased. If untreated, an inflamed appendix can burst , causing infection and even death. About 1 in 500 people has appendicitis each year. It is more common in males than in females and the incidence is highest in teenagers and people in their early twenti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citis may occur after a viral infection in the digestive tract or when the tube connecting the large intestine and appendix is blocked by trapped stoo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51"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c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p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a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bilic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use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roenter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xa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ectom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53"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you define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if the diseased appendix is left untrea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ich cases may appendicitis occ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symptoms of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as the infection worse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an accurate diagnosis of appendicitis challeng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conditions may mimic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people with symptoms of appendicitis take laxatives or ene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people with such symptoms take pain medici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people lead a normal life without their appendix?</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plural form for the following nouns:</a:t>
            </a:r>
            <a:endParaRPr b="0" lang="en-US" sz="2400" spc="-1" strike="noStrike">
              <a:solidFill>
                <a:srgbClr val="000000"/>
              </a:solidFill>
              <a:latin typeface="Arial"/>
            </a:endParaRPr>
          </a:p>
        </p:txBody>
      </p:sp>
      <p:sp>
        <p:nvSpPr>
          <p:cNvPr id="55"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ch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nomen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ter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mul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rd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ul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verbs in brackets into The Present Perfect or Past Perfect Tense:</a:t>
            </a:r>
            <a:endParaRPr b="0" lang="en-US" sz="2400" spc="-1" strike="noStrike">
              <a:solidFill>
                <a:srgbClr val="000000"/>
              </a:solidFill>
              <a:latin typeface="Arial"/>
            </a:endParaRPr>
          </a:p>
        </p:txBody>
      </p:sp>
      <p:sp>
        <p:nvSpPr>
          <p:cNvPr id="57"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friend (give up) smoking recent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doctor (tell) her the news, she (go) home satisf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 arrived at the faculty, the lectures (begin) alrea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an’t do this exercise as well as they (do) it up to n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nths now, we (meet) no one except John and his colleag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teacher was sure that he (give) the right adv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students (pass) already all their exams in this semes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he (read) half of the book, he said he didn’t like it.</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sentences:</a:t>
            </a:r>
            <a:endParaRPr b="0" lang="en-US" sz="2400" spc="-1" strike="noStrike">
              <a:solidFill>
                <a:srgbClr val="000000"/>
              </a:solidFill>
              <a:latin typeface="Arial"/>
            </a:endParaRPr>
          </a:p>
        </p:txBody>
      </p:sp>
      <p:sp>
        <p:nvSpPr>
          <p:cNvPr id="59"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he began vomiting, 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ould consult the doctor for sure if yo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agnosis will not be easy unless the pat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ppendix ruptures, s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ppendectomy were not performed, he............................................</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61"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and causes of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treat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4T09:36:49Z</dcterms:modified>
  <cp:revision>22</cp:revision>
  <dc:subject/>
  <dc:title>Slide 1</dc:title>
</cp:coreProperties>
</file>